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B80-E0B1-4807-B434-42A3FB3F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621-CCA4-4BC9-A17F-01D427A8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EBB-D838-4211-A51D-27DDA51B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2A1-D587-4E03-992F-D1FDEF19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6227-B0A8-4017-8A96-E73F6FF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34F-D6D0-4392-B7A0-C4770BE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3010-FF84-40A0-97D0-66540DD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972-270D-4152-96AE-497CFAB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1E2-230E-4D15-89B5-F72BF0A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7961-7C69-4A08-B1CE-C75EA07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0BB4-8446-44CE-AE85-9D96C79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B46-4413-4CE4-AEEF-9B1683E8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14F9-E0BE-466C-BA7D-A205D48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9526-54FD-48C8-B258-87CF6FC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E971-1476-4067-AB05-71561D5D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C6C-E63A-4DA9-B03C-84514A47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8617-7033-4AD6-B9B0-25F82CDA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197-EDE5-4784-88DA-DAEF1B0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C33-7840-48E0-824A-CF3C2DB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F8C-1025-45D7-BB10-55C9736B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E8D-0D20-46E8-8DD5-DA34EE0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410-F501-45C0-AE43-BAB66EE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959-788E-4EBE-9C42-A365FFA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86A-A1E2-4A0B-8BD3-EFA0FCF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EFE5-A232-4626-9B86-27534A44C52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3F69-31BF-4F2E-AF48-0235F154D446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60720" y="0"/>
            <a:ext cx="586728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900"/>
            </a:b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هللي يا محبّة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00720" y="3952800"/>
            <a:ext cx="49528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 بخور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00" y="2971800"/>
            <a:ext cx="5905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 نبيذ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 قربا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4365720"/>
            <a:ext cx="49532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00"/>
                </a:solidFill>
                <a:latin typeface="Tahoma"/>
                <a:cs typeface="Akhbar MT"/>
              </a:rPr>
              <a:t>لقاؤنا صلاة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3145" t="0" r="0" b="45810"/>
          <a:stretch/>
        </p:blipFill>
        <p:spPr>
          <a:xfrm>
            <a:off x="4859280" y="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46860" b="45810"/>
          <a:stretch/>
        </p:blipFill>
        <p:spPr>
          <a:xfrm>
            <a:off x="0" y="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4190" r="49220" b="0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50784" t="54196" r="0" b="0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11840" y="620640"/>
            <a:ext cx="2432160" cy="155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0"/>
            <a:ext cx="2627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933720"/>
            <a:ext cx="2735280" cy="18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573360"/>
            <a:ext cx="3419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قاؤ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924280"/>
            <a:ext cx="4610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اسُنا محبّ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4941720"/>
            <a:ext cx="7993080" cy="17182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4941720"/>
            <a:ext cx="918036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الأرضُ تهلِّل والسماءُ تبار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1644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تحت سقفٍ واحدٍ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213520"/>
            <a:ext cx="71154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9:11Z</dcterms:created>
  <dc:creator>Charbel Azar</dc:creator>
  <dc:description/>
  <dc:language>en-US</dc:language>
  <cp:lastModifiedBy>-</cp:lastModifiedBy>
  <dcterms:modified xsi:type="dcterms:W3CDTF">2003-01-16T16:23:58Z</dcterms:modified>
  <cp:revision>9</cp:revision>
  <dc:subject/>
  <dc:title>PowerPoint Presentation</dc:title>
</cp:coreProperties>
</file>